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A9A0FC-7DEF-4255-ADB8-D2F52CE6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ummarizing of the sessions and key messages of the past few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CA3647-F5EA-45FD-B870-9AE54A39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of 5-7% of grant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within NTP, significant government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&amp;E expertise leading and involved in the unit (program monitoring, information systems, epidemiology, statistics, data processing, and social scienc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volvement of academia (epidemiology, social sciences, commun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ment of key NGOs, donors, and international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essential to work within the existing system and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FB3632-BACF-44E6-ACD4-D3FC3DD4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C90FB-0633-43E7-8F32-8A990788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5EA06A-27BC-47B9-BCAB-A65FF4CC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good M&amp;E plan in the proposal, it should be able to answer all of the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rough this and pass out handout of this. Explain that the next group activity will be using this as a point of discussion to assess their own M&amp;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 continuum of data demand, generation, collection, and use activ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ntinuum is cyclical, reflecting an ongoing, iterative process. Partners work to ensure that data users demand quality data and that data producers understand users’ priorities and information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-With a strong M&amp;E system you can ensure that indicators and methodologies are comparable over time and reduce duplication of effort. This is particularly important where resources are scar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-NTP often need to report to various constituents (program managers, politicians, donors, researchers, etc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-…Rather than simply serving the reporting needs of agencies or legislatures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-Lab, nurses, community outreach, etc… requires shared planning, coordination execution and analysis, or data disse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5736A4-97D3-4A76-AC06-9675F21B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lready done steps 1 and 2. This presentation and the following group activity will focus on steps 3 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2F4FA0-DB92-493E-9A03-6C6DBB89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is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DF47B4-9CE1-4F35-8120-09859503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rview key inform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80293F-0956-457B-ADD2-6B9B55ABF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s such as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bullet – to ensure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&amp;E framework to develop an M&amp;E plan will do this later this mo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2CC8-D69C-4A20-83F2-77FD1EFE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28A2-36ED-46BA-9FA6-F729AF1AB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D8E0-B4E2-465D-A998-DACF42F9C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5453-7C6C-41C7-A066-95C01AD47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EABF-0111-4587-82AD-06B8B4C93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12A4-A9AA-4728-8CE9-30F7E4B655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FB2F-E53C-4D85-B08D-A2AA62D9F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9277-10C7-44A5-A037-8F48E4EFB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BBF2-C505-4D38-A867-4B7C113F2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8FAC-E2C9-411E-AD6C-5D7B75435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C068-79F7-4721-9102-2EBEB68D6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A556-E34E-40C8-AC0C-C45BC08C3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3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120" y="6381360"/>
            <a:ext cx="63831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324480"/>
            <a:ext cx="8886960" cy="0"/>
          </a:xfrm>
          <a:prstGeom prst="line">
            <a:avLst/>
          </a:prstGeom>
          <a:ln w="28440">
            <a:solidFill>
              <a:srgbClr val="2b3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9140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948-2E5A-45FA-BBA3-B1BBDE278B75}" type="slidenum">
              <a:rPr b="1" lang="en-US" sz="12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6440" y="433080"/>
            <a:ext cx="77724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rehensive M&amp;E System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dentifying Resources to Support M&amp;E Plans for National TB Pro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138480"/>
            <a:ext cx="64008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a V. Adams, M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&amp;E Regional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ev, Ukra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3-26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9880" y="216000"/>
            <a:ext cx="86155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Step 3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Establish/Strengthen M&amp;E Uni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41732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M&amp;E Unit within the NTP or implementing organization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Ensure adequate financial resources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Strengthen human capacity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Ensure regular supervision of data collection and reporting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D10E-6485-465D-92C3-0E4EFFB9F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4560"/>
            <a:ext cx="76881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Step 4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Implementation of M&amp;E Pla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evelop a strategy to build and maintain M&amp;E capacity at national and sub-national level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Adapt forms and guidelines for M&amp;E at different level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oordinate with sub-national, national, and international M&amp;E experts to support implementation of pla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rain staff at different level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evelop guidelines for reporting requirement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0D78-84AB-49D4-A2CE-E5C0E3D25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217440"/>
            <a:ext cx="855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263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5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chanisms for  Management and Quality Control of M&amp;E Activiti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f necessary, adapt national </a:t>
            </a:r>
            <a:r>
              <a:rPr b="1" lang="en-US" sz="2600" spc="-1" strike="noStrike">
                <a:solidFill>
                  <a:srgbClr val="2b3585"/>
                </a:solidFill>
                <a:latin typeface="Arial"/>
              </a:rPr>
              <a:t>database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 for indicators and report generatio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arry out regular assessments of quality of M&amp;E reporting at district (and regional) level (bi-annual system, each year half of the districts)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arry out regular assessments of quality of program monitoring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Establish feedback mechanisms!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19BD-9180-466D-9935-6978EE9359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&amp;E System Co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8058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Rule of Thumb is 10% of program budget (GFATM says 5-7%)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Situation Analysis and Design of M&amp;E plan         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or proposa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Strengthening of M&amp;E uni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Routine Data Collectio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Data Management and Reporting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Build Capacity for Data Analysis and Use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Quality Control Improvement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-  Special Survey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EE3C-8824-45C2-9406-93E09D9D7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0120" y="217440"/>
            <a:ext cx="77914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iorities for M&amp;E Systems Development and Strengthe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464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2b3585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Who will implement the system?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- How will the data be collected?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- How will the data be analyzed and used?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- How will the quality be ensured?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28C-9DB9-4519-8177-44AA0E3F3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list of a Good M&amp;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403200"/>
          <a:ext cx="9144000" cy="64245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E UNI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nit or individual within the central unit of the program who is responsible for M&amp;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gnificant contribution to the national M&amp;E budg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national and local research institutions, professional associations, and academic institution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leading NGOs, donors, and community-based organization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ist and/or social science expertise in the M&amp;E unit or affiliated with the uni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rocessing and statistical expertise in the M&amp;E unit or affiliated with the uni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expertise in the M&amp;E unit or affiliated with the unit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Goa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defined national program goals and target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reviews/evaluations of the progress of the implementation of the national program plan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and guidance to districts and regions or provinces for M&amp;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for linking M&amp;E to other secto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need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t of priority indicators and additional indicators at different levels of M&amp;E, some of which are comparable over time and with other countrie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ollection, Analysis, and Us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collection and analysis p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collect data and analyze indicators at different levels of M&amp;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wide knowledge and capacity (e.g., tools and budget) to collect and use da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supervise, support, and ensure the quality of data colle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ensure the translation of data into problem identification, strategic planning, policy formulation, etc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-dissemination pl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ll-disseminated informative annual report of the M&amp;E uni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meeting to disseminate and discuss M&amp;E and research findings with policy-makers and plann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learinghouse for generation and dissemination of finding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entralized database or library of all data collection, including ongoing researc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dissemination needs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0840" y="152280"/>
            <a:ext cx="81536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ssons Learned from Successfu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&amp;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Syste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7080" y="1460520"/>
            <a:ext cx="830556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Collect complete input and output data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Requires internal self-assessment and external evaluation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ystem should be a simple as possible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tandardized core set of tools to collect and analyze data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Human capacity to collect, verify, enter and analyze data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M&amp;E system built into the design of the program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3585"/>
                </a:solidFill>
                <a:latin typeface="Arial"/>
              </a:rPr>
              <a:t>Sub-national data important for national level and even more so for program management and decision-making</a:t>
            </a:r>
            <a:endParaRPr b="0" lang="en-US" sz="24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6248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urce: GFATM Tool 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5ED7-D458-49B9-8D72-F508827F3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23760" y="1341360"/>
            <a:ext cx="7763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GFATM (2004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Monitoring and Evaluation Toolkit HIV/AIDS, Tuberculosis and Malaria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WHO (2004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Global Tuberculosis Control: Surveillance, Planning, Financing. WHO Report 2004.  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WHO/IUATLD (2005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Anti-TB Drug Resistance Surveillance in the World. Report No. 3.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WHO (2004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Compendium of Indicators for Monitoring and Evaluating National Tuberculosis Programs.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WHO (1998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Tuberculosis Handbook</a:t>
            </a: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SWEF Research Network (2003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Common Research Protocol.</a:t>
            </a: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Monitoring and Evaluating the Health System-wide Effects of the Global Fund to Fight AIDS, Tuberculosis and Malaria. 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PHRPlus (2003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The System Wide Effects of The Global Fund : A Conceptual Framework 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3585"/>
                </a:solidFill>
                <a:latin typeface="Arial"/>
              </a:rPr>
              <a:t>Econ Analysis (2005). </a:t>
            </a:r>
            <a:r>
              <a:rPr b="0" i="1" lang="en-US" sz="1900" spc="-1" strike="noStrike">
                <a:solidFill>
                  <a:srgbClr val="2b3585"/>
                </a:solidFill>
                <a:latin typeface="Arial"/>
              </a:rPr>
              <a:t>Inventory of M&amp;E practices and systems for global health organizations.</a:t>
            </a:r>
            <a:endParaRPr b="0" lang="en-US" sz="19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933A-DABB-4008-B08C-3EDB4D6F5D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7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Work: Components of an M&amp;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3920" y="1238400"/>
            <a:ext cx="805824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Work in groups with your country colleague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Using the checklist of a good M&amp;E system, identify 2 gaps and 2 strengths in your own NTP’s M&amp;E system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raft M&amp;E Pla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Rabota v grupas s kollegami po strane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spolzuya proverochniy spisok horoshey systemi M&amp;E, opredelite 2 probela I dve silnyh storoni vashei sistemi M&amp;E NTP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Razrabotka Plana Otzenki I Monitoringa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1AE1-CD98-42E3-9D56-4512DDD3E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Elements of an M&amp;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M&amp;E managemen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Link to program/strategy goals and objective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ndicator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ata-collection system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ata analysis, use, and dissemination plan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15F4-BCB5-40B0-8E9F-79974E12F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9520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formation Continu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720" y="1523880"/>
            <a:ext cx="7880400" cy="47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DC3C-CC26-4ADA-99D4-0979D1AAC5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7136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can a comprehensive M&amp;E system support the NTP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Efficient use of data and resource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Responsive to key stakeholder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Guarantee that donor-funded M&amp;E efforts contribute to national need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Encourage communication between all those responsible for addressing TB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0494-C3B9-4481-97FE-63BC510B2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 of an M&amp;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Measure progres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mprove accountability and management of resource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Efficiently and effectively use data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mprove coordination with partner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ollect accurate, complete, and timely information on national efforts to control tuberculosis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b3585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CB66-23D1-4EC7-99F8-28FF8DE87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4960" y="18252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s to strengthen and implement an M&amp;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1.) M&amp;E Situation Analysi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2.) Develop M&amp;E plan 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3.) Establish/Strengthen M&amp;E Uni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4.) Implementation of M&amp;E Pla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5.) Mechanisms for Management and Quality Control of M&amp;E Activitie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B337-8C14-489F-A976-7A79BDFA9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 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M&amp;E Situation Analysi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28680"/>
            <a:ext cx="79772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Objectives: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Identify existing M&amp;E practices, indicators, and data sources already being collected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Identify gaps where indicators will need to be developed and data sources identified for the M&amp;E plan of the national TB program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Assess national M&amp;E capacity and needs for capacity development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Identify potential for integration of TB M&amp;E into national HI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FE7F-58CA-41A2-B4D9-FC2F79EB8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1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&amp;E Situation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1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3585"/>
                </a:solidFill>
                <a:latin typeface="Arial"/>
              </a:rPr>
              <a:t>Methodology</a:t>
            </a:r>
            <a:endParaRPr b="0" lang="en-US" sz="30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Desk review: essential document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Structured interviews with national-level stakeholders 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Structured interviews with regional and district-level stakeholders, including community organization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Structured interviews with data users at all levels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46EE-5672-4D2E-89D6-1EED3ED4C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Step 2: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Develop M&amp;E Pla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Develop clear goals and objectives to meet challenge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Propose interventions (solutions)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lect and/or develop indicators to measure interventions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dentify data sources and ensure collection is feasible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Identify those responsible for data analysis, use, and dissemination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kshop on Monitoring and Evaluation of Tuberculosis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F8F4-A8F0-42C9-8410-74B0AC1C8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38:47Z</dcterms:created>
  <dc:creator>Carolina Population Center</dc:creator>
  <dc:description/>
  <dc:language>en-US</dc:language>
  <cp:lastModifiedBy>Carolina Population Center</cp:lastModifiedBy>
  <dcterms:modified xsi:type="dcterms:W3CDTF">2006-11-09T15:56:21Z</dcterms:modified>
  <cp:revision>24</cp:revision>
  <dc:subject/>
  <dc:title>MEASURE Evaluation Co-branding Guidelines</dc:title>
</cp:coreProperties>
</file>